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30A02-8144-4662-837E-C422DB653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18379-7CD3-47C7-ABC2-F1F6EF439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CC165-CBB4-407F-985C-E15F86B61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55FF0-9034-4A22-820D-A91D2DD38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1315E-1745-47BA-A87F-CC45C8EA8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A17E6-EA43-421D-9D7B-508566515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BB8C1-0B6B-4FD7-869D-F22D3310D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09E46-3B1B-4DB1-9A3F-4BF95DA6A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6E21A-7727-467F-91F7-5B59F4F77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819C4-5602-4A96-AE6F-18078F934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8B97C-6D32-402C-A9AA-DE2DACA42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ADE5E-096D-4FA7-AADE-D5FE5D325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0EEF-9EBF-4F7D-887D-07097C569B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Друга недеља наставе, </a:t>
            </a:r>
            <a:r>
              <a:rPr b="1" lang="fr-FR" sz="2800" spc="-1" strike="noStrike">
                <a:solidFill>
                  <a:srgbClr val="000000"/>
                </a:solidFill>
                <a:latin typeface="Times New Roman"/>
                <a:ea typeface="Times New Roman"/>
              </a:rPr>
              <a:t>В09 ТОКСИКОЛОГИЈА – КЛИНИЧКИ, ЕКОЛОШКИ И ЕКСПЕРИМЕНТАЛНИ АСПЕКТИ</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898989"/>
                </a:solidFill>
                <a:latin typeface="Calibri"/>
              </a:rPr>
              <a:t>проф. </a:t>
            </a:r>
            <a:r>
              <a:rPr b="1" lang="en-US" sz="1800" spc="-1" strike="noStrike">
                <a:solidFill>
                  <a:srgbClr val="898989"/>
                </a:solidFill>
                <a:latin typeface="Calibri"/>
              </a:rPr>
              <a:t>Слободан Јанкови</a:t>
            </a:r>
            <a:r>
              <a:rPr b="1" lang="sr-CS" sz="1800" spc="-1" strike="noStrike">
                <a:solidFill>
                  <a:srgbClr val="898989"/>
                </a:solidFill>
                <a:latin typeface="Calibri"/>
              </a:rPr>
              <a:t>ћ</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едативно-хипнотички токсидром</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Хипотензиј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Брадикардиј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мањена фреквенција дисањ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нижена температур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Зенице нормалн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Успорена перисталти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ува кож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Опиоидни токсидром</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Хипотензиј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Брадикардиј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мањена фреквенција дисањ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нижена температур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Зенице сужен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Успорена перисталти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ува кож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алуциногени токсидром</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Дезоријентација</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Халуцинације и илузије</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анична реакција,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Влажна кожа</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Епилептички напад</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ојачана перисталтика</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Тахикардија, хипертензија</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Убрзано дисањ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Лабораторијске анализе</a:t>
            </a:r>
            <a:endParaRPr b="0" lang="en-US" sz="4400" spc="-1" strike="noStrike">
              <a:solidFill>
                <a:srgbClr val="000000"/>
              </a:solidFill>
              <a:latin typeface="Calibri"/>
            </a:endParaRPr>
          </a:p>
        </p:txBody>
      </p:sp>
      <p:sp>
        <p:nvSpPr>
          <p:cNvPr id="65" name=""/>
          <p:cNvSpPr txBox="1"/>
          <p:nvPr/>
        </p:nvSpPr>
        <p:spPr>
          <a:xfrm>
            <a:off x="457200" y="1285920"/>
            <a:ext cx="8229600" cy="50436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Рутинска лабораторија: </a:t>
            </a:r>
            <a:endParaRPr b="0" lang="en-US" sz="32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омплетна крвна слика</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Гликемија, уреа, креатинин, аминотрансферазе, билирубин</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Електролити (калијум, натријум, калцијум, хлор, бикарбонати – анјонски зјап</a:t>
            </a:r>
            <a:r>
              <a:rPr b="0" lang="en-US" sz="2400" spc="-1" strike="noStrike">
                <a:solidFill>
                  <a:srgbClr val="000000"/>
                </a:solidFill>
                <a:latin typeface="Times New Roman"/>
                <a:ea typeface="Times New Roman"/>
              </a:rPr>
              <a:t>: Na-Cl-HCO3 = </a:t>
            </a:r>
            <a:r>
              <a:rPr b="0" lang="sr-C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 – 1</a:t>
            </a:r>
            <a:r>
              <a:rPr b="0" lang="sr-C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 mEq/L)</a:t>
            </a:r>
            <a:endParaRPr b="0" lang="en-US" sz="2400" spc="-1" strike="noStrike">
              <a:solidFill>
                <a:srgbClr val="000000"/>
              </a:solidFill>
              <a:latin typeface="Calibri"/>
            </a:endParaRPr>
          </a:p>
          <a:p>
            <a:pPr lvl="2" marL="1131480" indent="-226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смоларност серума</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арцијални притисак кисеоника и угљен-диоксида у артеријској крви</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ерење конкретног отрова: само када се посумња на тачно одређени отро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Рендгенски снимак трбуха</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Виде се многобројне сенке у цревима код тровања:</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ешким металим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Литијумом</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алогенираним токсиним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Фенотиазин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Лек припремљен у ретардним таблетам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пецифични лабораторијски знаци</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ипокалцемија: код тровања етилен гликолом или флуороводоничном киселином</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окраћа флуоресцира код тровања етилен гликолом</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ада крв на филтер папиру остане браон и после излагања ваздуху, вероватно се ради о метхемоглобинемији</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лорид гвожђа са салицилатима и фенотиазинима у урину реагује и ствара јарко црвену бој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14680"/>
            <a:ext cx="7772400" cy="18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Принципи хемодијализе, форсиране диурезе и хемоперфузије</a:t>
            </a:r>
            <a:endParaRPr b="0" lang="en-US" sz="4000" spc="-1" strike="noStrike">
              <a:solidFill>
                <a:srgbClr val="000000"/>
              </a:solidFill>
              <a:latin typeface="Calibri"/>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емодијализа</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Код хемодијализе се крв (из артерије или из вене; ако се узима из вене, мора се машином обезбедити довољан притисак) спроводи кроз хиљаде танких цевчица, чији зидови су полу-пропустљиви. Цевчице се купају у дијализној течности, тако да из крви мали молекули (уреа, вода, електролити) кроз зид цевчица улазе у дијализну течност, и са њом се елиминиш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емодијализа</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Код хемофилтрације крв протиче кроз ситне цевчице чији зи­дови су перфорирани; величина отвора је око 20.000 далтона у пречнику. Из крви кроз отворе на цевчицама излазе молекули мањи од 20.000 </a:t>
            </a:r>
            <a:r>
              <a:rPr b="0" lang="sr-Latn-CS" sz="2400" spc="-1" strike="noStrike">
                <a:solidFill>
                  <a:srgbClr val="000000"/>
                </a:solidFill>
                <a:latin typeface="Calibri"/>
              </a:rPr>
              <a:t>D</a:t>
            </a:r>
            <a:r>
              <a:rPr b="0" lang="sr-CS" sz="2400" spc="-1" strike="noStrike">
                <a:solidFill>
                  <a:srgbClr val="000000"/>
                </a:solidFill>
                <a:latin typeface="Calibri"/>
              </a:rPr>
              <a:t>а, и елиминишу с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Код хемодијафилтрације имамо комбинацију полу-пропустљи­ве и перфориране мембране. Течност која се филтрира кроз перфо­рирану мембрану се затим меша са дијализном течношћу и одлази у дијализни део; тамо се у крв могу вратити неки потребни јони, који би се иначе елиминисали филтрацијо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емодијализа</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ошто се приликом хемодијализе и хемофилтрације губе бикарбонати, да би се спречио настанак ацидозе, дијализна течност садржи лактат или ацетат (бикарбонат се не додаје, јер није стабилан у раствору). Лактат или ацетат кроз полу-пропустљиву или перфорирану мембрану улазе у крв болесника, везују јон водоника, и тиме индиректно подстичу стварање бикарбона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ада се болесник подвргава хемодијализи или хемофилтрацији, мора му се дати антикоагуланс хепарин, како не би дошло до коагулације крви у цевчицама дијализатора. У последње време се уместо хепарина користи лек епопростенол, који инхибира ефекат тромбоксана на тромбоците. Епопростенол изазива хипотензиј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alibri"/>
              </a:rPr>
              <a:t>ОТКРИВАЊЕ УЗРОКА ТРОВАЊ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Перитонеална дијализа</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Перитонеална дијализа</a:t>
            </a:r>
            <a:r>
              <a:rPr b="0" lang="en-US" sz="2000" spc="-1" strike="noStrike">
                <a:solidFill>
                  <a:srgbClr val="000000"/>
                </a:solidFill>
                <a:latin typeface="Calibri"/>
              </a:rPr>
              <a:t> је поступак код кога се преко посебне цевчице уведене у перитонеалну шупљину (тзв. перитонеални катетер) у трбух улива одређена количина дијализне течности, која се после више сати стајања, кроз исту цевчицу излива из трбуха. За време док течност стоји у перитонеалној шупљини, кроз трбушну марамицу (перитонеалну мебрану) из крви у ту течност излазе уреа, креатинин и други мали молекули који се налазе у вишку. Када се дијализна течност излије из трбуха, организам се тиме ослобађа од разградних продуката метаболизма. Перитонеална дијализа је мање ефикасна од хемодијализе, и носи ризик од инфекције трбушне марамице (перитонитис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Машина за хемодијализу</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То је машина са три функциј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умпа крв и обезбеђује безбедан проток крв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дстрањује разградне материја из крв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нтролише крвни притисак и брзину којом се течност отклања из тела</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Дијализатор</a:t>
            </a:r>
            <a:endParaRPr b="0" lang="en-US" sz="4400" spc="-1" strike="noStrike">
              <a:solidFill>
                <a:srgbClr val="000000"/>
              </a:solidFill>
              <a:latin typeface="Calibri"/>
            </a:endParaRPr>
          </a:p>
        </p:txBody>
      </p:sp>
      <p:sp>
        <p:nvSpPr>
          <p:cNvPr id="83" name=""/>
          <p:cNvSpPr txBox="1"/>
          <p:nvPr/>
        </p:nvSpPr>
        <p:spPr>
          <a:xfrm>
            <a:off x="456840" y="1600200"/>
            <a:ext cx="4614840" cy="48290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Дијализатор је уствари комора која садржи хиљаде танких цевчица кроз које пролази крв пацијента. Дијализна течност се пумпа око ових цевчиц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Дијализатор се може и више пута користити код истог пацијента, под условом да се очисти пре сваке употребе.</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емодијализом се отклањају следећи отрови:</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Етилен гликол</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Литију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Метанол</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алицила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Теофили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Форсирана диуреза</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форсирана диуреза</a:t>
            </a:r>
            <a:r>
              <a:rPr b="0" lang="en-US" sz="1800" spc="-1" strike="noStrike">
                <a:solidFill>
                  <a:srgbClr val="000000"/>
                </a:solidFill>
                <a:latin typeface="Calibri"/>
              </a:rPr>
              <a:t> - смањење реапсорпције електролита и воде у дисталним тубулима или Хенлеовој петљи доводи до смањења реапсорпције и отрова из примарног урина. Резултат је повећање количине урина и повећање количине елиминисаног отрова. Овакав ефекат постиже се применом снажних диуретика Хенлеове петље, посебно фуросемида, уз обилну инфузију физиолошког раствора како би се одржао проток крви кроз бубреге. Додатно повећање излучивања отрова може се постићи применом базе (НаХЦО</a:t>
            </a:r>
            <a:r>
              <a:rPr b="0" lang="en-US" sz="1800" spc="-1" strike="noStrike" baseline="-25000">
                <a:solidFill>
                  <a:srgbClr val="000000"/>
                </a:solidFill>
                <a:latin typeface="Calibri"/>
              </a:rPr>
              <a:t>3</a:t>
            </a:r>
            <a:r>
              <a:rPr b="0" lang="en-US" sz="1800" spc="-1" strike="noStrike">
                <a:solidFill>
                  <a:srgbClr val="000000"/>
                </a:solidFill>
                <a:latin typeface="Calibri"/>
              </a:rPr>
              <a:t>) или киселине (НХ</a:t>
            </a:r>
            <a:r>
              <a:rPr b="0" lang="en-US" sz="1800" spc="-1" strike="noStrike" baseline="-25000">
                <a:solidFill>
                  <a:srgbClr val="000000"/>
                </a:solidFill>
                <a:latin typeface="Calibri"/>
              </a:rPr>
              <a:t>4</a:t>
            </a:r>
            <a:r>
              <a:rPr b="0" lang="en-US" sz="1800" spc="-1" strike="noStrike">
                <a:solidFill>
                  <a:srgbClr val="000000"/>
                </a:solidFill>
                <a:latin typeface="Calibri"/>
              </a:rPr>
              <a:t>Цл). Применом базе урин постаје базан, тако да отрови који су слабе киселине у тубулима бубрега буду сасвим дисосовани, тј. поларисани; као такви слабо пролазе мембрану тубуларних ћелија, остају у лумену и појачано се излучују урином. Такву форсирану диурезу називамо </a:t>
            </a:r>
            <a:r>
              <a:rPr b="1" lang="en-US" sz="1800" spc="-1" strike="noStrike">
                <a:solidFill>
                  <a:srgbClr val="000000"/>
                </a:solidFill>
                <a:latin typeface="Calibri"/>
              </a:rPr>
              <a:t>форсирана алкална диуреза</a:t>
            </a:r>
            <a:r>
              <a:rPr b="0" lang="en-US" sz="1800" spc="-1" strike="noStrike">
                <a:solidFill>
                  <a:srgbClr val="000000"/>
                </a:solidFill>
                <a:latin typeface="Calibri"/>
              </a:rPr>
              <a:t>. С друге стране, ако је отров слаба база, урин треба закиселити применом амонијум-хлорида. У киселом урину отров је више дисосован, што значи да се слабије реапсорбује а више излучује мокраћом. То је </a:t>
            </a:r>
            <a:r>
              <a:rPr b="1" lang="en-US" sz="1800" spc="-1" strike="noStrike">
                <a:solidFill>
                  <a:srgbClr val="000000"/>
                </a:solidFill>
                <a:latin typeface="Calibri"/>
              </a:rPr>
              <a:t>форсирана кисела диуреза</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Форсирана диуреза</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Форсираном алкалном диурезом се повећава излучивање салицилата и фенобарбитала.</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sr-CS" sz="3000" spc="-1" strike="noStrike">
                <a:solidFill>
                  <a:srgbClr val="000000"/>
                </a:solidFill>
                <a:latin typeface="Calibri"/>
              </a:rPr>
              <a:t>Раствор 5% глукозе се помеша заједно са 150 мМ натријум бикарбоната и </a:t>
            </a:r>
            <a:r>
              <a:rPr b="0" lang="en-US" sz="3000" spc="-1" strike="noStrike">
                <a:solidFill>
                  <a:srgbClr val="000000"/>
                </a:solidFill>
                <a:latin typeface="Calibri"/>
              </a:rPr>
              <a:t>20 </a:t>
            </a:r>
            <a:r>
              <a:rPr b="0" lang="sr-CS" sz="3000" spc="-1" strike="noStrike">
                <a:solidFill>
                  <a:srgbClr val="000000"/>
                </a:solidFill>
                <a:latin typeface="Calibri"/>
              </a:rPr>
              <a:t>до</a:t>
            </a:r>
            <a:r>
              <a:rPr b="0" lang="en-US" sz="3000" spc="-1" strike="noStrike">
                <a:solidFill>
                  <a:srgbClr val="000000"/>
                </a:solidFill>
                <a:latin typeface="Calibri"/>
              </a:rPr>
              <a:t> 40 mEq </a:t>
            </a:r>
            <a:r>
              <a:rPr b="0" lang="sr-CS" sz="3000" spc="-1" strike="noStrike">
                <a:solidFill>
                  <a:srgbClr val="000000"/>
                </a:solidFill>
                <a:latin typeface="Calibri"/>
              </a:rPr>
              <a:t>калијума. Готов раствор се примењује брзином од </a:t>
            </a:r>
            <a:r>
              <a:rPr b="0" lang="en-US" sz="3000" spc="-1" strike="noStrike">
                <a:solidFill>
                  <a:srgbClr val="000000"/>
                </a:solidFill>
                <a:latin typeface="Calibri"/>
              </a:rPr>
              <a:t>250 mL/h </a:t>
            </a:r>
            <a:r>
              <a:rPr b="0" lang="sr-CS" sz="3000" spc="-1" strike="noStrike">
                <a:solidFill>
                  <a:srgbClr val="000000"/>
                </a:solidFill>
                <a:latin typeface="Calibri"/>
              </a:rPr>
              <a:t>код одраслих и</a:t>
            </a:r>
            <a:r>
              <a:rPr b="0" lang="en-US" sz="3000" spc="-1" strike="noStrike">
                <a:solidFill>
                  <a:srgbClr val="000000"/>
                </a:solidFill>
                <a:latin typeface="Calibri"/>
              </a:rPr>
              <a:t> 2 </a:t>
            </a:r>
            <a:r>
              <a:rPr b="0" lang="sr-CS" sz="3000" spc="-1" strike="noStrike">
                <a:solidFill>
                  <a:srgbClr val="000000"/>
                </a:solidFill>
                <a:latin typeface="Calibri"/>
              </a:rPr>
              <a:t>д</a:t>
            </a:r>
            <a:r>
              <a:rPr b="0" lang="en-US" sz="3000" spc="-1" strike="noStrike">
                <a:solidFill>
                  <a:srgbClr val="000000"/>
                </a:solidFill>
                <a:latin typeface="Calibri"/>
              </a:rPr>
              <a:t>o 3 mL/kg/h </a:t>
            </a:r>
            <a:r>
              <a:rPr b="0" lang="sr-CS" sz="3000" spc="-1" strike="noStrike">
                <a:solidFill>
                  <a:srgbClr val="000000"/>
                </a:solidFill>
                <a:latin typeface="Calibri"/>
              </a:rPr>
              <a:t>код деце. ПХ урина се одржава изнад 8.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Не спроводити форсирану диурезу ако пацијент има бубрежну инсуфицијенцију</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емоперфузија</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Хемоперфузија</a:t>
            </a:r>
            <a:r>
              <a:rPr b="0" lang="en-US" sz="2400" spc="-1" strike="noStrike">
                <a:solidFill>
                  <a:srgbClr val="000000"/>
                </a:solidFill>
                <a:latin typeface="Calibri"/>
              </a:rPr>
              <a:t>  је поступак пропуштања крви болесника кроз цевчице обложене активним угљем. На честице овог угља апсорбују се лекови и отрови који имају велике, поларне молекуле. Хемоперфузија је метода избора за одстрањивање следећих лекова из крви (када се предозирају): метилксантина (теофилин, кофеин), барбитурата (фенобарбитон), фенитоина, карбамазепина и салицила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Хемоперфузијом се отклањају следећи отрови:</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libri"/>
              </a:rPr>
              <a:t>Барбитурат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libri"/>
              </a:rPr>
              <a:t>Неки антидепресив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libri"/>
              </a:rPr>
              <a:t>Етхлорвинол</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libri"/>
              </a:rPr>
              <a:t>Мепробамат</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libri"/>
              </a:rPr>
              <a:t>Паракват</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libri"/>
              </a:rPr>
              <a:t>Глутетимид</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libri"/>
              </a:rPr>
              <a:t>Баријум</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libri"/>
              </a:rPr>
              <a:t>Аминогликозид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libri"/>
              </a:rPr>
              <a:t>Метотрексат</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libri"/>
              </a:rPr>
              <a:t>Ацетаминофен</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Техника хемоперфузије</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000000"/>
                </a:solidFill>
                <a:latin typeface="Calibri"/>
              </a:rPr>
              <a:t>Хемоперфузија се користи са или без машине за хемодијализу.</a:t>
            </a:r>
            <a:r>
              <a:rPr b="0" lang="en-US" sz="2700" spc="-1" strike="noStrike">
                <a:solidFill>
                  <a:srgbClr val="000000"/>
                </a:solidFill>
                <a:latin typeface="Calibri"/>
              </a:rPr>
              <a:t> </a:t>
            </a:r>
            <a:r>
              <a:rPr b="0" lang="sr-CS" sz="2700" spc="-1" strike="noStrike">
                <a:solidFill>
                  <a:srgbClr val="000000"/>
                </a:solidFill>
                <a:latin typeface="Calibri"/>
              </a:rPr>
              <a:t>Једна канила се поставља у артерију пацијента, а друга у вену. Затим се канила из артерије везује за улаз у хемоперфузиону машину, а канила из вене за излаз.  Пацијенту са да хепарин на почетку, и затим на сваких 20 минута. Третман траје око 3 сата.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libri"/>
              </a:rPr>
              <a:t>Крв протиче кроз цевчице испуњене честицама смоле или активног угља. Молекули отрова се везују за смолу или активни угаљ, док се очишћена крв враћа у вену болесника. Капацитет машине за хемоперфузију је чак 300 мл на минут!</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Ризици хемоперфузије</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Инфекциј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Крварењ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Тромбоз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Губитак тромбоци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Хипотензиј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Квар на маши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Анамнеза</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д пацијен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д родбин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д здравствених радника који су довезли пацијен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д фармацеу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Три основна питања: шта је пацијент попио, колико и кад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Када се убрзава елиминација отрова из крви</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Код тешко болесни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Када је пацијент отрован леталном дозо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Када нема нормалне елиминације (нпр. инсуфицијенција бубрег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Када делују ове методе</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Када је волумен дистрибуције лека мал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Када супстанца може да прође кроз мембрану дијализатора или се везује за абсорбенс у колони</a:t>
            </a:r>
            <a:endParaRPr b="0" lang="en-US" sz="3200" spc="-1" strike="noStrike">
              <a:solidFill>
                <a:srgbClr val="000000"/>
              </a:solidFill>
              <a:latin typeface="Calibri"/>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Шта је ендогени клиренс отрова</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Ако је ендогени клиренс отрова велики, онда примена хемоперфузије или хемодијализе неће много додати, тј, није неопход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римери лекова са великим ендогеним клиненсом: лидокаин, опиоиди, трициклични антидепресиви, бета блокатори</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Добар физикални преглед</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братити пажњу на:</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тање свести</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Зенице</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ирис који се шири од пацијента</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Боју и сувоћу коже</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ромене на кожи</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ад срца</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исање</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онус мишић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Токсидроми</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Холинергич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иперсаливациј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Неконтролисано мокрење</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Губитак контроле столице</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иоз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Брадикардиј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Знојава кож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Токсидроми</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Антихолинергич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увоћа слузокож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идријаз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Парализа акомодације</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Опстипациј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Ретенција урин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ахикардиј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ува кож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Токсидроми</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импатич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Такихардиј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Скок артеријског крвног притиск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Мидријаз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Знојава и хладна кож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Токсидроми</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импатолитич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Хипотензија</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Брадикардија</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Синдром епилептичког напада</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Најчешћи узрочниц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Кокаи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мфетами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тидепресив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зониазид</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Имипенем и меропенем</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Антипсихотици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Дифенхидрами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2:11:43Z</dcterms:created>
  <dc:creator> </dc:creator>
  <dc:description/>
  <dc:language>en-US</dc:language>
  <cp:lastModifiedBy>Slobodan Jankovic</cp:lastModifiedBy>
  <dcterms:modified xsi:type="dcterms:W3CDTF">2013-01-26T16:28:35Z</dcterms:modified>
  <cp:revision>53</cp:revision>
  <dc:subject/>
  <dc:title>Принципи хемодијализе, форсиране диурезе и хемоперфузије</dc:title>
</cp:coreProperties>
</file>